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250-F4DF-44D1-85B3-D76B0E9A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B27-4336-47CE-92E1-E1BBB81E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EF6-D2E0-470C-8E08-C5C1E2E5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3280-9EE0-420D-8997-92B89146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4F16-77A7-4F77-B71D-00201759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04C-15E5-4166-8A90-6B6431EE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3E6-6666-4353-983C-0B0D2A72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C7D7-3683-4BAF-8075-2DBD2441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D6A-6EE6-44E8-942B-8870431C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618-639C-42C8-A2B7-E8D7624C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5B2-B8F0-4CF7-83DF-ED64F22E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1B4A-BC2E-41A9-8EDF-02AC2C17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104E-73DF-41A1-BDF7-26AAB257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cabezas ro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ojos azul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pies morad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manos blanc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iez bocas negra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cabezas azul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ojos blanc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iez pies negr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manos ro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bocas morada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piernas verd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bocas ro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ojos negr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cabezas amarill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manos marrón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cabezas verd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seis manos naranj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manos blanc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bocas negr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orejas azule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os pies roj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tres bocas azule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inco manos morad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cuatro pies blanco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diez ojos negr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10 cabezas negr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3 ojos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ojo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6 manos </a:t>
            </a: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morad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4 bocas </a:t>
            </a:r>
            <a:r>
              <a:rPr b="0" lang="en-GB" sz="3600" spc="-1" strike="noStrike">
                <a:solidFill>
                  <a:srgbClr val="ffcc00"/>
                </a:solidFill>
                <a:latin typeface="Comic Sans MS"/>
              </a:rPr>
              <a:t>amarill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8 pies </a:t>
            </a:r>
            <a:r>
              <a:rPr b="0" lang="en-GB" sz="3600" spc="-1" strike="noStrike">
                <a:solidFill>
                  <a:srgbClr val="993300"/>
                </a:solidFill>
                <a:latin typeface="Comic Sans MS"/>
              </a:rPr>
              <a:t>marrón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7 cabezas negras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6 ojos </a:t>
            </a:r>
            <a:r>
              <a:rPr b="0" lang="en-GB" sz="3600" spc="-1" strike="noStrike">
                <a:solidFill>
                  <a:srgbClr val="ff6600"/>
                </a:solidFill>
                <a:latin typeface="Comic Sans MS"/>
              </a:rPr>
              <a:t>naranj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5 manos </a:t>
            </a: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azul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4 bocas </a:t>
            </a:r>
            <a:r>
              <a:rPr b="0" lang="en-GB" sz="3600" spc="-1" strike="noStrike">
                <a:solidFill>
                  <a:srgbClr val="ffcc00"/>
                </a:solidFill>
                <a:latin typeface="Comic Sans MS"/>
              </a:rPr>
              <a:t>amarill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12 pies </a:t>
            </a:r>
            <a:r>
              <a:rPr b="0" lang="en-GB" sz="3600" spc="-1" strike="noStrike">
                <a:solidFill>
                  <a:srgbClr val="009900"/>
                </a:solidFill>
                <a:latin typeface="Comic Sans MS"/>
              </a:rPr>
              <a:t>verd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4 cabezas </a:t>
            </a:r>
            <a:r>
              <a:rPr b="0" lang="en-GB" sz="3600" spc="-1" strike="noStrike">
                <a:solidFill>
                  <a:srgbClr val="ff66cc"/>
                </a:solidFill>
                <a:latin typeface="Comic Sans MS"/>
              </a:rPr>
              <a:t>rosad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3ojos 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ojo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5 manos </a:t>
            </a: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morad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6 bocas </a:t>
            </a:r>
            <a:r>
              <a:rPr b="0" lang="en-GB" sz="3600" spc="-1" strike="noStrike">
                <a:solidFill>
                  <a:srgbClr val="009900"/>
                </a:solidFill>
                <a:latin typeface="Comic Sans MS"/>
              </a:rPr>
              <a:t>verde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l babuino tiene 8 pies negro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1:57:58Z</dcterms:created>
  <dc:creator>Helen</dc:creator>
  <dc:description/>
  <dc:language>en-US</dc:language>
  <cp:lastModifiedBy>Helen</cp:lastModifiedBy>
  <dcterms:modified xsi:type="dcterms:W3CDTF">2010-05-26T20:30:00Z</dcterms:modified>
  <cp:revision>4</cp:revision>
  <dc:subject/>
  <dc:title>     Mi monstruo tiene dos cabezas rojas. Mi monstruo tiene tres ojos azules. Mi monstruo tiene cinco pies morados. Mi monstruo tiene cuatro manos blancas. Mi monstruo tiene diez bocas negras. </dc:title>
</cp:coreProperties>
</file>